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512-F544-4EB8-8525-80DE78E9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4BD-0F4B-44E1-8685-E0B677A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23E-64C2-465F-B7D4-8360A93D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3CA-8B29-4B3C-B2C7-BFA5C946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F16B-647D-468F-A16A-E53B2705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BA1-FDC6-4B3D-9116-835EC74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FB80-D3F4-4E68-A3FC-C2873C9E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8C1D-728E-40E9-98B2-ECBC9BE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3E21-FE38-43F6-9629-7462544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EB00-2547-458F-BDAB-992C0337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410-7C7F-4A81-B422-DF07F41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518-B72B-41DE-8620-B03E91F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406-E298-4F45-95FF-B12B858A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26DE-5012-45CA-AC3D-DE5C1BC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B15-94CC-49B7-88FF-5474322D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F1E-D6C4-411B-81AF-9869AEDF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5E3-D973-49DF-B82B-5842C78F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6EC-C8A2-4D7D-B611-7E318E6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584-9303-4086-B70A-25B2663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0AC-690A-414F-B61E-40AB262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C27-D8C5-4F14-9FE4-9818AAC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AC8-81FE-4D4F-8485-88961D9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11B-FD51-4D1D-84AB-E4CC492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CC7-5A36-45EF-B0D7-D752F9CD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885-7593-4130-9DCF-2F62ADA2EE7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5D17-A38A-48CC-BD14-1685CB6FA04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N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8800">
            <a:off x="2514600" y="1905120"/>
            <a:ext cx="408636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Ravie"/>
              </a:rPr>
              <a:t>Lesson 53</a:t>
            </a:r>
            <a:endParaRPr b="1" i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7960" y="48117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aeafe"/>
                </a:solidFill>
                <a:latin typeface="zypyyb"/>
                <a:ea typeface="zypyyb"/>
              </a:rPr>
              <a:t>By TianFeng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334120"/>
            <a:ext cx="4648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ccff"/>
                </a:solidFill>
                <a:latin typeface="幼圆"/>
                <a:ea typeface="幼圆"/>
              </a:rPr>
              <a:t>No.1 Middle School of Jiaojiang Taizhou,Zhej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isten to the tape and then answ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1143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2133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1.What are Jane and Zhou Lan talk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590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y are talking about thei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31240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2.Why won’t Zhou Lan go walking around Lond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720" y="361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Because it’s too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7720" y="42242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3.Where will Jane and Zhou Lan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9760" y="4724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 Science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UN_034" descr=""/>
          <p:cNvPicPr/>
          <p:nvPr/>
        </p:nvPicPr>
        <p:blipFill>
          <a:blip r:embed="rId1"/>
          <a:stretch/>
        </p:blipFill>
        <p:spPr>
          <a:xfrm>
            <a:off x="1219320" y="6019920"/>
            <a:ext cx="761976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4800" y="2286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2400" y="10666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feel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2040" y="1371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seem to be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象是；摸起来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4680" y="16765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feel like a f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1640" y="1981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t feels like co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600" y="228600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have a desire for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想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840" y="25909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’ll go for a walk if you feel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0560" y="297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don’t feel like (eating) a big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6960" y="3276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.so/as fa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320" y="35812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就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来说， 在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范围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560" y="388620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 far as I know he will be away for three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960" y="419112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 far as I could see, it is a matter of great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240" y="4495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He’ll help you as far as h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3240" y="48006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至某一明确地点；同样远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960" y="513864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e walked as far as the post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 didn’t go as far as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1008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S_044" descr=""/>
          <p:cNvPicPr/>
          <p:nvPr/>
        </p:nvPicPr>
        <p:blipFill>
          <a:blip r:embed="rId1"/>
          <a:stretch/>
        </p:blipFill>
        <p:spPr>
          <a:xfrm>
            <a:off x="7467480" y="4572000"/>
            <a:ext cx="1222560" cy="2035080"/>
          </a:xfrm>
          <a:prstGeom prst="rect">
            <a:avLst/>
          </a:prstGeom>
          <a:ln w="0">
            <a:noFill/>
          </a:ln>
        </p:spPr>
      </p:pic>
      <p:pic>
        <p:nvPicPr>
          <p:cNvPr id="132" name="line10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37036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2880" y="5857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3.would rather do…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宁愿干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320" y="9478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not go to see th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4479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go there on foot than ride a bi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6800" y="2286000"/>
            <a:ext cx="3958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ahoma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prefer walking to cyc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He prefer tea to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wouldn’t like to do tha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5880" y="182880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’d rather have tea than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6960" y="4267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4.personally 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就自己而言；亲自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880" y="4800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sonally, I don’t think much of your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0" y="53341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showed me around the school pers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ZW_015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ZW_020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8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22320" y="304920"/>
            <a:ext cx="611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Make up sentences using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sentence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3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I feel 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9080" y="15238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I’d rather(not)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6920" y="19051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As far as I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5640" y="228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4.I’m read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274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31240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feel like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去看电影，你愿意同我一道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8320" y="3505320"/>
            <a:ext cx="78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feel like going to the cinema.Would you like to go with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4520" y="38862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就我自己而言，我宁愿发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-mail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给他而不愿写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1120" y="434340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ersonally, I’d rather e-mail him than write h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48006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打算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intend to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明天去看有关太空和卫星的展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5480" y="5340240"/>
            <a:ext cx="7241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intend to see the exhibition about space and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tomo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_006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0638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W_011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-571680"/>
            <a:ext cx="7792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Make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up</a:t>
            </a: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 dialogues using the following sit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886200"/>
            <a:ext cx="914400" cy="609480"/>
          </a:xfrm>
          <a:prstGeom prst="cloudCallout">
            <a:avLst>
              <a:gd name="adj1" fmla="val 56250"/>
              <a:gd name="adj2" fmla="val -129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1676520" cy="1904760"/>
          </a:xfrm>
          <a:prstGeom prst="cloudCallout">
            <a:avLst>
              <a:gd name="adj1" fmla="val -117800"/>
              <a:gd name="adj2" fmla="val 83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52480"/>
            <a:ext cx="4191120" cy="5105520"/>
          </a:xfrm>
          <a:prstGeom prst="cloudCallout">
            <a:avLst>
              <a:gd name="adj1" fmla="val -36287"/>
              <a:gd name="adj2" fmla="val -5730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ahoma"/>
              </a:rPr>
              <a:t>Situ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Students A &amp; B are talking about going to see a film about space and satellites at Jiaojiang Theatre on Saturda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33760" y="1219320"/>
            <a:ext cx="3657600" cy="5410080"/>
          </a:xfrm>
          <a:prstGeom prst="cloudCallout">
            <a:avLst>
              <a:gd name="adj1" fmla="val 65578"/>
              <a:gd name="adj2" fmla="val 47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905120"/>
            <a:ext cx="3962520" cy="4647960"/>
          </a:xfrm>
          <a:prstGeom prst="cloudCallout">
            <a:avLst>
              <a:gd name="adj1" fmla="val -49680"/>
              <a:gd name="adj2" fmla="val -63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200400"/>
            <a:ext cx="3276720" cy="3200400"/>
          </a:xfrm>
          <a:prstGeom prst="cloudCallout">
            <a:avLst>
              <a:gd name="adj1" fmla="val -80569"/>
              <a:gd name="adj2" fmla="val -84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057400"/>
            <a:ext cx="3962520" cy="4800600"/>
          </a:xfrm>
          <a:prstGeom prst="cloudCallout">
            <a:avLst>
              <a:gd name="adj1" fmla="val 35055"/>
              <a:gd name="adj2" fmla="val -6177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tu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om and Lin Ming are talking about making a model spaceship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RW_01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00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UN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29080" y="2952720"/>
            <a:ext cx="2085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Goodby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7:59:53Z</dcterms:created>
  <dc:creator>Terence</dc:creator>
  <dc:description/>
  <dc:language>en-US</dc:language>
  <cp:lastModifiedBy>Terence</cp:lastModifiedBy>
  <dcterms:modified xsi:type="dcterms:W3CDTF">2002-02-23T11:18:42Z</dcterms:modified>
  <cp:revision>19</cp:revision>
  <dc:subject/>
  <dc:title>PowerPoint 演示文稿</dc:title>
</cp:coreProperties>
</file>